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C3E-D97C-43D9-B6F4-E3FE0986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B76-5394-4937-872D-E8BEAC27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4CF-5DC5-4308-9A30-2A9C2137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E0F-4C69-4A63-94DD-8E8F1A87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8AF-3075-4CCC-AD19-52FD4E9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829-B18D-4A3A-86BA-1D4F6DC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96E-3509-4F3D-B600-3437637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AD9-3E82-4753-B328-725A3D4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539-60B4-4D6F-AE88-E814690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470-8B96-4CE6-AE7A-2C25E97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70F-4584-4C3D-8583-F9A3B66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FD2-37DD-43B3-BF0D-805F199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FD1-24A0-4AB9-A856-1CEF9483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730600" y="0"/>
            <a:ext cx="40561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HDL - Tu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figure1"/>
          <p:cNvPicPr/>
          <p:nvPr/>
        </p:nvPicPr>
        <p:blipFill>
          <a:blip r:embed="rId1"/>
          <a:stretch/>
        </p:blipFill>
        <p:spPr>
          <a:xfrm>
            <a:off x="1628640" y="1360440"/>
            <a:ext cx="55944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gnal x Variable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ale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0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g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ll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&lt;= 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  &lt;=  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884840" y="1981080"/>
            <a:ext cx="300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t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x := 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:= 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  :=  Au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LOAD : STD_LOGIC_VECTOR (5 downto 0) := "110000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PC :STD_LOGIC_VECTOR(15 downto 0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 Progr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S IS (decode, exec, halt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STA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S IS ARRAY (0 to 15) OF STD_LOGIC_VECTOR(15 downto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REGISTER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 RX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X :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;      ou        RX := conv_integer(IR1(9 DOWNTO 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(RX)  &lt;= x"0000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 := X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 := X *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 := CONV_STD_LOGIC_VECTO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_INTEGER(X) / CONV_INTEGER(Y),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212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 (clk, re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RX :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AUX  :STD_LOGIC_VECTOR(15 downto 0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reset = '1')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(0)  &lt;= x"0000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&lt;= bus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if (clk'event) and (clk = '1'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at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busca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&lt;= decodific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ecodifica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&lt;= exe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exec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&lt;= busc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OTHERS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&lt;= busc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 C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212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ate 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 Case das Trans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0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içõ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1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F (FL = ‘1’) THEN  state &lt;= 2;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-Transi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LSE state &lt;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2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OTHERS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 &lt;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 C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ate 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 Case das 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0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çõ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1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zina &lt;= ‘1’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A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2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OTHERS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zina &lt;= ‘0’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A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 C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219320" y="0"/>
            <a:ext cx="647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GA -  FIELD-PROGRAMMABLE GAT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figure1"/>
          <p:cNvPicPr/>
          <p:nvPr/>
        </p:nvPicPr>
        <p:blipFill>
          <a:blip r:embed="rId1"/>
          <a:stretch/>
        </p:blipFill>
        <p:spPr>
          <a:xfrm>
            <a:off x="1752480" y="2532240"/>
            <a:ext cx="4286520" cy="396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931920" y="1731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51120" y="1617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of 8 logic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438600" y="574848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57400" y="2778120"/>
            <a:ext cx="76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 flipV="1">
            <a:off x="1219320" y="2455560"/>
            <a:ext cx="839520" cy="3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038480" y="5646600"/>
            <a:ext cx="18288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867280" y="5799240"/>
            <a:ext cx="53352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1219320" y="2150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9880" y="3065400"/>
            <a:ext cx="228600" cy="182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4038480" y="222732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HDL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 High Speed Integrated Circui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dw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p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Department of Defense “Do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9320" y="1515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HD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_4"/>
          <p:cNvPicPr/>
          <p:nvPr/>
        </p:nvPicPr>
        <p:blipFill>
          <a:blip r:embed="rId1"/>
          <a:stretch/>
        </p:blipFill>
        <p:spPr>
          <a:xfrm>
            <a:off x="0" y="2573280"/>
            <a:ext cx="89359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HDL - Hi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`70s: Initial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 `70s: Definition of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 -`82: Contract of development with IBM, Intermetrics and 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 -`84: Version 7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 -`86: IEEE-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7: DoD adopts the standard -&gt; IEEE.107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 -`88: Increasing support by CAE manufactur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 `91: Revision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u Comecei a Utiliza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3: New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: VHDL-AMS ex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HDL - Hi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7240" y="2766600"/>
            <a:ext cx="77724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d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----------</a:t>
            </a:r>
            <a:br>
              <a:rPr sz="1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 Example VHDL Code 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---------------------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mySignal: bit;        -- an example signa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ignal &lt;= '0',                           -- start with '0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'1' AFTER 10 ns,     -- and toggle af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'0' after 10 ns,         -- every 10 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'1' afTer 10 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e in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: '--' until end of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ements are terminated by ';'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ay span multiple lin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assignment: '&lt;='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ble assignment: ‘:=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defined nam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tters, numbers, undersc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rt with a let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LFAD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port(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   A, B:                in   bi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   SUM, CARRY: out bit)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LFADDER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t_23"/>
          <p:cNvPicPr/>
          <p:nvPr/>
        </p:nvPicPr>
        <p:blipFill>
          <a:blip r:embed="rId1"/>
          <a:stretch/>
        </p:blipFill>
        <p:spPr>
          <a:xfrm>
            <a:off x="1871640" y="4692600"/>
            <a:ext cx="5164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HALFADDER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port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A, B:                in   bi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SUM, CARRY: out bi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HALFADDER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T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LFADD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SUM      &lt;= A xor B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CARRY &lt;= A and B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T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21:27:57Z</dcterms:created>
  <dc:creator>SBROWN</dc:creator>
  <dc:description/>
  <dc:language>en-US</dc:language>
  <cp:lastModifiedBy>Simoes</cp:lastModifiedBy>
  <dcterms:modified xsi:type="dcterms:W3CDTF">2014-10-06T17:07:55Z</dcterms:modified>
  <cp:revision>15</cp:revision>
  <dc:subject/>
  <dc:title>No Slide Title</dc:title>
</cp:coreProperties>
</file>