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E40AAE-0C63-4F79-B1C7-717229E68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635429-92AC-431C-AD7E-02EE87D92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13CA69-A15A-4B50-889B-AEE01D0D1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464-DD13-42A6-9286-8371421C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872880"/>
            <a:ext cx="82296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D99-1D14-403D-BD1B-F3FB0A5F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401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315800"/>
            <a:ext cx="401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72880"/>
            <a:ext cx="401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872880"/>
            <a:ext cx="401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85A-2844-4001-801F-0757B046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26496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315800"/>
            <a:ext cx="26496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315800"/>
            <a:ext cx="26496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872880"/>
            <a:ext cx="26496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872880"/>
            <a:ext cx="26496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872880"/>
            <a:ext cx="26496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57C-0EE2-4FA0-A8CE-B541F634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9C7-B154-4C8A-BDE9-2472F0E7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F1C-783A-43F9-87CA-CE46EF30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401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315800"/>
            <a:ext cx="401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375-B604-42A0-96EC-95E80CFB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E5B-3C75-4E86-B97E-AB330E7A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455760"/>
            <a:ext cx="82072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24D-D611-46D4-B706-35CF78D3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401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315800"/>
            <a:ext cx="401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872880"/>
            <a:ext cx="401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A28-AD1C-4C7E-9402-E1F859B6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401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315800"/>
            <a:ext cx="401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872880"/>
            <a:ext cx="401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9B8-5340-419A-B4FE-F0CDAD9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401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315800"/>
            <a:ext cx="401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872880"/>
            <a:ext cx="82296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F37-39CB-4CD4-B221-0F239FDE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2649-2CBD-4338-A8C6-25FD9A437F8F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2B2A-77C5-43BD-BC71-07006F4251E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143000"/>
            <a:ext cx="8226360" cy="28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6377040"/>
            <a:ext cx="8226360" cy="2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../../../diversos/tutoriais/VHDL/Tutorial_CD/TUTORIAL/IEEE/HTML/1076_1.HTM" TargetMode="External"/><Relationship Id="rId2" Type="http://schemas.openxmlformats.org/officeDocument/2006/relationships/hyperlink" Target="file:///../../../../../diversos/tutoriais/VHDL/Tutorial_CD/TUTORIAL/IEEE/HTML/1076_1.HT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../../../diversos/tutoriais/VHDL/Tutorial_CD/TUTORIAL/IEEE/HTML/1076_1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../../../diversos/tutoriais/VHDL/Tutorial_CD/TUTORIAL/IEEE/HTML/1076_1.HTM" TargetMode="External"/><Relationship Id="rId2" Type="http://schemas.openxmlformats.org/officeDocument/2006/relationships/hyperlink" Target="file:///../../../../../diversos/tutoriais/VHDL/Tutorial_CD/TUTORIAL/IEEE/HTML/1076_1.HTM" TargetMode="External"/><Relationship Id="rId3" Type="http://schemas.openxmlformats.org/officeDocument/2006/relationships/hyperlink" Target="file:///../../../../../diversos/tutoriais/VHDL/Tutorial_CD/TUTORIAL/IEEE/HTML/1076_2.HTM" TargetMode="External"/><Relationship Id="rId4" Type="http://schemas.openxmlformats.org/officeDocument/2006/relationships/hyperlink" Target="file:///../../../../../diversos/tutoriais/VHDL/Tutorial_CD/TUTORIAL/IEEE/HTML/1076_3.HTM" TargetMode="External"/><Relationship Id="rId5" Type="http://schemas.openxmlformats.org/officeDocument/2006/relationships/hyperlink" Target="file:///../../../../../diversos/tutoriais/VHDL/Tutorial_CD/TUTORIAL/IEEE/HTML/1076_4.HT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../../../../diversos/tutoriais/VHDL/Tutorial_CD/TUTORIAL/IEEE/HTML/1076_9.HTM" TargetMode="External"/><Relationship Id="rId2" Type="http://schemas.openxmlformats.org/officeDocument/2006/relationships/hyperlink" Target="file:///../../../../../diversos/tutoriais/VHDL/Tutorial_CD/TUTORIAL/IEEE/HTML/1076_9.HTM" TargetMode="External"/><Relationship Id="rId3" Type="http://schemas.openxmlformats.org/officeDocument/2006/relationships/hyperlink" Target="file:///../../../../../diversos/tutoriais/VHDL/Tutorial_CD/TUTORIAL/IEEE/HTML/1076_9.HTM" TargetMode="External"/><Relationship Id="rId4" Type="http://schemas.openxmlformats.org/officeDocument/2006/relationships/hyperlink" Target="file:///../../../../../diversos/tutoriais/VHDL/Tutorial_CD/TUTORIAL/IEEE/HTML/1076_9.HTM" TargetMode="External"/><Relationship Id="rId5" Type="http://schemas.openxmlformats.org/officeDocument/2006/relationships/hyperlink" Target="file:///../../../../../diversos/tutoriais/VHDL/Tutorial_CD/TUTORIAL/IEEE/HTML/1076_9.HTM" TargetMode="External"/><Relationship Id="rId6" Type="http://schemas.openxmlformats.org/officeDocument/2006/relationships/hyperlink" Target="file:///../../../../../diversos/tutoriais/VHDL/Tutorial_CD/TUTORIAL/IEEE/HTML/1076_9.HTM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../../../../../diversos/tutoriais/VHDL/Tutorial_CD/TUTORIAL/IEEE/HTML/1076_8.HTM" TargetMode="External"/><Relationship Id="rId2" Type="http://schemas.openxmlformats.org/officeDocument/2006/relationships/hyperlink" Target="file:///../../../../../diversos/tutoriais/VHDL/Tutorial_CD/TUTORIAL/IEEE/HTML/1076_8.HTM" TargetMode="External"/><Relationship Id="rId3" Type="http://schemas.openxmlformats.org/officeDocument/2006/relationships/hyperlink" Target="file:///../../../../../diversos/tutoriais/VHDL/Tutorial_CD/TUTORIAL/IEEE/HTML/1076_8.HTM" TargetMode="External"/><Relationship Id="rId4" Type="http://schemas.openxmlformats.org/officeDocument/2006/relationships/hyperlink" Target="file:///../../../../../diversos/tutoriais/VHDL/Tutorial_CD/TUTORIAL/IEEE/HTML/1076_8.HTM" TargetMode="External"/><Relationship Id="rId5" Type="http://schemas.openxmlformats.org/officeDocument/2006/relationships/hyperlink" Target="file:///../../../../../diversos/tutoriais/VHDL/Tutorial_CD/TUTORIAL/IEEE/HTML/1076_8.HTM" TargetMode="External"/><Relationship Id="rId6" Type="http://schemas.openxmlformats.org/officeDocument/2006/relationships/hyperlink" Target="file:///../../../../../diversos/tutoriais/VHDL/Tutorial_CD/TUTORIAL/IEEE/HTML/1076_8.HTM" TargetMode="External"/><Relationship Id="rId7" Type="http://schemas.openxmlformats.org/officeDocument/2006/relationships/hyperlink" Target="file:///../../../../../diversos/tutoriais/VHDL/Tutorial_CD/TUTORIAL/IEEE/HTML/1076_8.HTM" TargetMode="External"/><Relationship Id="rId8" Type="http://schemas.openxmlformats.org/officeDocument/2006/relationships/hyperlink" Target="file:///../../../../../diversos/tutoriais/VHDL/Tutorial_CD/TUTORIAL/IEEE/HTML/1076_8.HTM" TargetMode="External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../../IEEE/HTML/1076_1.HTM" TargetMode="External"/><Relationship Id="rId2" Type="http://schemas.openxmlformats.org/officeDocument/2006/relationships/hyperlink" Target="file:///../../../../IEEE/HTML/1076_1.HTM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/altera/91/quartus/common/help/webhelp/mergedProjects/hdl/vhdl/vhdl_pro_packages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C709-707B-43CE-8D4E-D4ED25FDC116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B0B7-0D71-46B7-B4DE-D33BFF297EB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Arial"/>
              </a:rPr>
              <a:t>Elementos de Lógica Digital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187280" y="3429000"/>
            <a:ext cx="662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Aula 2 – Introduction to VH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produzido 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Vanderlei Bon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Eduardo Sim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4DFA-EA14-42B3-8112-7AEE9B80A6B6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19DA-7E83-485C-8ABA-81BC5518B93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Entity Declaration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 entity declaration describes the interface of the compone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RT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clause indicates input and output port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 entity can be thought of as a symbol for a compone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ric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may be added for readability, maintenance and configuration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1007-893C-4253-9107-0AFDE0F8E89F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38A8-1D0A-4004-B46B-7E8EE37B0CF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Entity Declaration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486320" cy="266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2050920" y="4653000"/>
            <a:ext cx="5248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0541-E820-4AB6-9B9B-42AB2A84903A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29CD-48DA-4453-815C-B92A90EEAFF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Architecture Declaration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chitectur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declarations describe the operation of the compone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ny architectures may exist for one entity, but only one may be active at a tim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 architecture is similar to a schematic of th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2DA0-45E1-412F-BC04-609A49224D22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AB44-773E-476E-AC69-20200749041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DE17-D9DD-4843-A508-BBA564237442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0DDD-E4CE-4A70-8402-4C4C42E7509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Arial"/>
              </a:rPr>
              <a:t>Packages and Libraries 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ser defined constructs declared inside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chitecture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ntitie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are not visible to other entiti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ubprogram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user defined data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yp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nstant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an not be shar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ckages and libraries provide the ability to reuse constructs in multiple entities and architectu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66B7-7A82-4AAA-8E99-EF51150811AE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1AB3-9855-45B4-86B4-D2CEC9FCE5D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Sequential and Concurrent Stat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HDL provides two different types of execution: sequential and concurre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fferent types of execution are useful for modeling of real hardwa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ports various levels of abstractio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quential statements view hardware from a "programmer" approach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current statements are order-independent and asynchronou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6AB6-4F43-497B-8368-9608827D845F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680F-401C-4701-8BC9-5F5F08AD407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Sequential Statement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quential statements run in top to bottom ord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quential execution most often found in behavioral description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atements inside PROCESS execute sequentially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B5D6-D8E0-4AC0-B8EA-C69402AF9099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E56E-25E4-4A6F-A8F5-BFFE6E015E0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Concurrent Statement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ll concurrent statements occur simultaneously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ow are concurrent statements processed?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mulator time does not advance until all concurrent statements are processe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me concurrent statement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ock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oces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ser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ignal assignmen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ocedure cal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mponent insta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6970-A0C1-484F-85DF-196CC8BDDA59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F9A6-0D51-49A4-8668-38C0705E2FC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VHDL Process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gnments executed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quent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gn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aria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&lt;condition&gt; then &lt;statements&gt; else &lt;statements&gt; 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or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range&gt; loop &lt;statements&gt; end loop;</a:t>
            </a:r>
            <a:br>
              <a:rPr sz="2000"/>
            </a:b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hil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condition&gt; loop &lt;statements&gt; end 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as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condition&gt; is when &lt;value&gt; =&gt; &lt;statements&gt;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en &lt;value&gt; =&gt; &lt;statements&gt;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en others =&gt; &lt;statements&gt;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d ca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ai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n &lt;signal&gt; until &lt;expression&gt; for &lt;time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sse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&lt;condition&gt; report &lt;string&gt; severity &lt;level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56C7-C1DD-4DC0-A13A-5DD7A948D0BD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9DD1-3951-4245-913C-AE1D7739F05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VHDL Process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VHDL process statement is used for all behavioral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3514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1384-D263-4346-B9A0-BF62F4193479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C7C1-37DF-4908-90C4-5B89D0F839F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Arial"/>
              </a:rPr>
              <a:t>Sumário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HD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quencial and Parallel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gnal and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ate Machin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8A69-7977-4B87-A2FD-A154B9637667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71B0-091F-4C56-A1A8-9723573909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Arial"/>
              </a:rPr>
              <a:t>Process Example - Carry Bit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2340000" y="1230480"/>
            <a:ext cx="44989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8664-CFCC-4DCF-A5C1-6480AE0570CD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C427-8E5C-42BD-806E-E32471E2EE8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A Design Example - 2-bit Counter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315800"/>
            <a:ext cx="8675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ENTITY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count2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PORT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(clock : IN B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1, q0: OUT BI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 count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RCHITECTURE behavior OF count2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unt_up: PROCESS (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RIABLE count_value: NATURAL :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F clock='1'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unt_value := (count_value+1) MOD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0 &lt;= bit'val(count_value MOD 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1 &lt;= bit'val(count_value/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 PROCESS count_u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 behavior;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85AA-5F8B-47DB-A13A-762F48DF6828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C5B8-D40E-4A9B-9E3A-8B7F5724761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Signals vs Variabl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ed for local storage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enerally not available to multiple components and process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l variable assignments take place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ables are more convenient than signals for the storage of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ables may be made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ed for communication between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gnals can be seen as real, physical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me delay must be incurred in a signal assignmen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6486-3128-4010-BCD8-7D4D44C980AB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ED0B-6496-48DB-8734-350071B06BD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Assignment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040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6327-C547-483D-A7D0-554BB97E80E6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3ACB-8A4B-4989-9436-A15E5A6C8C5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Signal x Variable Behaviour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315800"/>
            <a:ext cx="76550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TITY aulavhdl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RT (clock, data_in : IN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_v, r_s, r_s_par: OUT BIT);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aulavh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CHITECTURE behavior OF aulavhdl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gnal a_s, a_s_par: BIT := '0';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CESS (clo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able a_v: BIT := '0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clock='1'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_v := data_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_v &lt;= a_v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_s &lt;= data_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_s &lt;= a_s;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PROCESS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_s_par &lt;= data_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_s_par &lt;= a_s_par;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behavior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D785-5062-4389-8B65-164E4B7A6250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CBB5-0A31-40E0-BC5E-0DF70323021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Signal x Variable Behaviour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8675640" cy="2487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cebam a diferença de comportamento do “signal” dentro e fora do process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a “variable” não há surpresa, pois é utilizada somente dentro do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E130-0AC4-403E-BD79-8B1A56AAD580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2B22-80C5-4B44-BE9B-94A629EA4EA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Data Typ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15920" y="1565280"/>
            <a:ext cx="8964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E0FF-FB5A-47F7-92B6-2B86F384245A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58E4-9D5A-435E-82C7-5DC0C24CAEC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Dealing with Data Typ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6AFD-ACB4-444C-8F0E-14D8CA16CEF6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4B98-577C-43ED-87F8-FCC48187B6D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Scalar Assignment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649440" y="1920960"/>
            <a:ext cx="8064360" cy="1522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81360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639B-B64F-446B-8782-42161DC43CC1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99A5-1D94-4103-822D-C52BF92352B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Vector Assignment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7848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40CD-7CD2-4C76-AAEC-E9C41194BA82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5196-15E3-44D3-9C7F-3F7D83E8324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Concept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HDL is the VHSIC (Very High Speed Integrated Circuit) Hardware Description Langua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HDL is an international standard specification language for describing digital hardware used by industry worldwi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HDL enables hardware modeling from the gate to system leve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HDL provides a mechanism for digital design and reusable design documentatio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B215-4296-4E67-B1E6-88F3C831E412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B3A6-512D-40EB-8C76-9198F0BCD07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Ilegal Assignment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137440" cy="142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81360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F1D5-754E-4976-B5BB-FCF1B76F2FB3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7FDF-84D1-44E8-A001-435DF357F7C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DOWNTO and TO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218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74170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AA90-C87E-424E-B504-1DCEDE7E488A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830B-CD26-44C4-AAF1-634CFE8954C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Bit Level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5184720" cy="37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8136000" cy="30258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st of the std_logic are intended for simulation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E433-EEAF-435C-BA61-6A455AC7896C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A422-0327-4963-893C-7C5B3D60526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ULOGIC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8064360" cy="707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826920" y="2700360"/>
            <a:ext cx="7993080" cy="1825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3"/>
          <a:stretch/>
        </p:blipFill>
        <p:spPr>
          <a:xfrm>
            <a:off x="747720" y="2924280"/>
            <a:ext cx="15228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3A8D-1DB5-4197-A154-4FF9A967FB32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AC3D-2C0E-468A-BF27-11E97629ABB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SIGNED and UNSIGNED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heir syntax similar to STD_LOGIC_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GNED and UNSIGNED are intended mainly for arithmetic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ogic operations are not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050920" y="4292640"/>
            <a:ext cx="49672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F10F-DBF1-4947-A802-D813BFB7BF05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439B-2098-4AF3-806D-6BF93F224DC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Data Conversion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HDL does not allow direct operations between data of differe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sions are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ral data conversion functions can be found in the std_logic_arith package of IEE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411A-AC80-4E4B-8CF7-1663689C8068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3980-8F29-4C7B-9222-89884C90DB1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d_logic_arith Conversion Func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137440" cy="223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442800" y="4076640"/>
            <a:ext cx="82076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C6C5-283E-423A-B9B3-A5CE5EB81EB5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BFCF-A602-4939-B4A9-3FBA9E8DA23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Operator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35000" y="1776240"/>
            <a:ext cx="88948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975E-1B8C-4893-8926-A56E8B5A246A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B187-180A-4F03-8865-A645D72BD21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Some Explanat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7C0C-D0D7-42B4-8358-E8FD747B4DE7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6A53-75BD-48A2-A5E9-959FCC58588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Exercises 1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e um elevador para 4 andares com as seguintes entradas e saí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a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m botão de chamada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 botoes internos para indicar o 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nsor de fechamento da p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nsor de presença na p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m sensor de presenca de elevador por and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tor elevador (liga/desli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reção_elevador (sobe/des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ta porta (liga/desli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recao_porta (abre/fec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C79D-577A-4D65-A6FE-DA08758A498E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6303-52E7-40CA-B17A-5C1B53A1522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History of VHDL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aunched in 198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ggressive effort to advance state of the ar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ct was to achieve significant gains in VLSI technology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eed for common descriptive langua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 July 1983, a team of Intermetrics, IBM and Texas Instruments were awarded a contract to develop VHD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C159-023D-4425-8D5D-826189D137C0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2281-F6E7-44CA-A476-A6A14CC474F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Ti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NTITY name and the file name must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ysical and time data types are not synthesizable to FP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hm, ko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s, ps, ns, um, ms, min,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7EE6-7B85-4E7E-936A-14B4CCECCBC2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B078-6F82-4DFA-9C2D-598B07FE26F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And more ...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duce a single retur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quires a RETURN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duce many out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 not require a RETURN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stb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nerate stimulus fo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are output responses with expect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24C7-F896-46EF-A9ED-893D14B49FF1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8167-514A-4A40-AA82-CC66BEBE98B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droni, Volnei A. Circuit Design with VHDL, MIT Press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ARPA/Tri-Services RASS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ttp://www.vhdl.org/rass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256C-1D1F-40B9-84BB-39FEC264785C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9F7D-F3EA-4A59-A16B-84FE5AA7E56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History of VHDL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 August 1985, the final version of the language under government contract was released: VHDL Version 7.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 December 1987, VHDL became IEEE Standard 1076-1987 and in 1988 an ANSI approved standar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 September 1993, VHDL was restandardized to clarify and enhance the language (IEEE Standard 1076-19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nce then there has been many other VHDL standard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503E-751C-4CF3-997D-5FCD48458C7A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CE01-9C68-4221-94D7-AD8C76E571D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How about Quartus II 9.1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Quartus II software supports a subset of the constructs defined by the IEEE Std 1076-1987 and IEEE Std 1076-19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t supports only those constructs that are relevant to logic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Quartus II software also supports packages defined in IEEE Std 1076.3-1997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Quartus II software contains support for VHDL 2008, IEEE Std 1076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4980-C0F6-478E-8BE4-D43AF2366996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EAF8-2081-4D6D-A693-43E30A144C1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Why Use VHDL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vides technology independenc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scribes a wide variety of digital hardwa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ases communication through standard langua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llows for better design manageme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vides a flexible desig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36EC-307F-4E08-B353-2996FA2537B2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0832-E232-4E00-BA0D-F29777623F9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Espaço Reservado para Data 3"/>
          <p:cNvSpPr/>
          <p:nvPr/>
        </p:nvSpPr>
        <p:spPr>
          <a:xfrm>
            <a:off x="45720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76BC-6652-40EB-AE80-7C88D6013740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spaço Reservado para Número de Slide 5"/>
          <p:cNvSpPr/>
          <p:nvPr/>
        </p:nvSpPr>
        <p:spPr>
          <a:xfrm>
            <a:off x="6553080" y="643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09D8-6F74-4065-986A-640E3E95538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5576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Sample VHDL Design Proces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158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blem: design a single bit half adder with carry and enabl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pecification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sses results only on enable hig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sses zero on enable lo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 gets x plus 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ry gets any carry of x plus 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7:23:41Z</dcterms:created>
  <dc:creator>vb</dc:creator>
  <dc:description/>
  <dc:language>en-US</dc:language>
  <cp:lastModifiedBy>Simoes</cp:lastModifiedBy>
  <dcterms:modified xsi:type="dcterms:W3CDTF">2013-09-16T17:11:25Z</dcterms:modified>
  <cp:revision>784</cp:revision>
  <dc:subject/>
  <dc:title>A Parallel Hardware Architecture for Image Feature Detection</dc:title>
</cp:coreProperties>
</file>